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8514D1D-F869-491F-B3EA-D1F876966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F8576C4-EEDA-4DD7-9E78-76073FBA9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30120" y="542880"/>
            <a:ext cx="6351840" cy="4764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351000" y="5553000"/>
            <a:ext cx="630864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7C915-EA36-4D29-BCB0-31BA8C52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47D97-E757-4E02-B4E1-7CD8EB58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C6ED8-EEDB-4A58-8709-5124ED5E3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DC9F6-1B4A-4ACF-B8A9-8D050CCA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833FE-7AE9-4DAE-9960-C609AD3717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8EC84-6661-48E1-9F0F-BC14274B6B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D78FF-EE37-4227-98E4-DAFC42EEBD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F702F-C673-48DB-AB73-1DB7037453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74462-8F63-4D35-A50C-CD3490666E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7F919-1679-448E-9C94-6B75A3D8B5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3E079-2846-46AA-B88E-61B9D9839B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697BA-7E56-426E-B563-A0E06CF6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5C3D5-4412-46D9-8A8B-543325F290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451B8-79C1-4E19-BD6A-75DC8AFEBB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C3614-CB9C-4739-A128-19EA625CD5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C5928-08CC-4C97-A396-F1A5CA0E23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9A606-1074-4939-A00B-287EB9403C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17364-BDEE-4C8A-A2BA-3FBA4B703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72B858-2BC2-4F16-A4D3-DEA3B988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01B192-3AF1-49A0-915B-85774F16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38E3BA-EC92-497E-A030-29615B72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6B9918-A74B-49F3-B9E0-C4427A03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63994-E138-492A-B0C2-C5290B64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77597-F8FA-4F5C-80DE-1DCE13F3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C1559B-5EA6-43E2-9B55-E62B9281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88C9A1-A11D-4B11-82D4-E45F3023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10E8A-BF06-4C41-8D3D-81685BCC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DD0C50-9D12-4F08-B6D8-C42FF39B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284917-489A-484C-8388-CCCC4467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08FEF-92F6-4758-B6A6-88140511B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0FA33-55B7-4ADE-95A3-AFF13E29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6EFE9-7BDE-47FB-B060-9FE48092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C5111-47B1-490D-8A5A-0497E9C3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3D980-8003-42DA-8970-CFE046FE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5CE5A-FE29-49E4-B3A8-CA94FE06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4663D-6628-45A6-A5B4-DA5D81D1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B451-4C74-4779-9291-8415087D6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240" y="7920"/>
            <a:ext cx="9140760" cy="6850080"/>
            <a:chOff x="3240" y="792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6440" y="3548160"/>
              <a:ext cx="6392880" cy="3309840"/>
              <a:chOff x="2746440" y="354816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6440" y="420516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3280" y="424800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6920" y="531972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5720" y="354816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8520" y="368604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6880" y="213660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40" y="792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4"/>
          </p:nvPr>
        </p:nvSpPr>
        <p:spPr>
          <a:xfrm>
            <a:off x="30456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7866-2735-4D6D-AA3A-F977D5B70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A2E7-9FC9-4288-A925-EB08FD4D6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Learning and Achievement </a:t>
            </a:r>
            <a:br>
              <a:rPr sz="5400"/>
            </a:br>
            <a:endParaRPr b="1" lang="en-US" sz="5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52388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Garamond"/>
              </a:rPr>
              <a:t>School Libraries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3623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Across the </a:t>
            </a:r>
            <a:br>
              <a:rPr sz="44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urriculum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339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For All Students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90F4C-1F98-4AF7-B665-E26260417BC0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3505320" y="762120"/>
            <a:ext cx="2409480" cy="2632680"/>
            <a:chOff x="3505320" y="762120"/>
            <a:chExt cx="2409480" cy="2632680"/>
          </a:xfrm>
        </p:grpSpPr>
        <p:sp>
          <p:nvSpPr>
            <p:cNvPr id="152" name=""/>
            <p:cNvSpPr/>
            <p:nvPr/>
          </p:nvSpPr>
          <p:spPr>
            <a:xfrm flipV="1">
              <a:off x="4699080" y="1335960"/>
              <a:ext cx="0" cy="20588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3505320" y="762120"/>
              <a:ext cx="2409480" cy="1250280"/>
              <a:chOff x="3505320" y="762120"/>
              <a:chExt cx="2409480" cy="1250280"/>
            </a:xfrm>
          </p:grpSpPr>
          <p:sp>
            <p:nvSpPr>
              <p:cNvPr id="154" name=""/>
              <p:cNvSpPr/>
              <p:nvPr/>
            </p:nvSpPr>
            <p:spPr>
              <a:xfrm>
                <a:off x="3505320" y="762120"/>
                <a:ext cx="2409480" cy="12502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34920" y="842400"/>
                <a:ext cx="2143080" cy="10839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5000760" y="2057400"/>
            <a:ext cx="4142880" cy="1250640"/>
            <a:chOff x="5000760" y="2057400"/>
            <a:chExt cx="4142880" cy="1250640"/>
          </a:xfrm>
        </p:grpSpPr>
        <p:sp>
          <p:nvSpPr>
            <p:cNvPr id="157" name=""/>
            <p:cNvSpPr/>
            <p:nvPr/>
          </p:nvSpPr>
          <p:spPr>
            <a:xfrm flipV="1">
              <a:off x="5000760" y="267804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6452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734160" y="2057400"/>
              <a:ext cx="2409480" cy="1250640"/>
              <a:chOff x="6734160" y="2057400"/>
              <a:chExt cx="2409480" cy="1250640"/>
            </a:xfrm>
          </p:grpSpPr>
          <p:sp>
            <p:nvSpPr>
              <p:cNvPr id="159" name=""/>
              <p:cNvSpPr/>
              <p:nvPr/>
            </p:nvSpPr>
            <p:spPr>
              <a:xfrm>
                <a:off x="6734160" y="205740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63760" y="213804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Materials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5378040" y="3122640"/>
            <a:ext cx="2670120" cy="2493360"/>
            <a:chOff x="5378040" y="3122640"/>
            <a:chExt cx="2670120" cy="2493360"/>
          </a:xfrm>
        </p:grpSpPr>
        <p:sp>
          <p:nvSpPr>
            <p:cNvPr id="162" name=""/>
            <p:cNvSpPr/>
            <p:nvPr/>
          </p:nvSpPr>
          <p:spPr>
            <a:xfrm>
              <a:off x="5378040" y="3122640"/>
              <a:ext cx="1391040" cy="19029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5638680" y="4365360"/>
              <a:ext cx="2409480" cy="1250640"/>
              <a:chOff x="5638680" y="4365360"/>
              <a:chExt cx="2409480" cy="1250640"/>
            </a:xfrm>
          </p:grpSpPr>
          <p:sp>
            <p:nvSpPr>
              <p:cNvPr id="164" name=""/>
              <p:cNvSpPr/>
              <p:nvPr/>
            </p:nvSpPr>
            <p:spPr>
              <a:xfrm>
                <a:off x="5638680" y="436536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68280" y="444600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ystem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1371600" y="3199320"/>
            <a:ext cx="2631960" cy="2493000"/>
            <a:chOff x="1371600" y="3199320"/>
            <a:chExt cx="2631960" cy="2493000"/>
          </a:xfrm>
        </p:grpSpPr>
        <p:sp>
          <p:nvSpPr>
            <p:cNvPr id="167" name=""/>
            <p:cNvSpPr/>
            <p:nvPr/>
          </p:nvSpPr>
          <p:spPr>
            <a:xfrm flipH="1">
              <a:off x="2611800" y="3199320"/>
              <a:ext cx="1391760" cy="19022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371600" y="4441680"/>
              <a:ext cx="2409480" cy="1250640"/>
              <a:chOff x="1371600" y="4441680"/>
              <a:chExt cx="2409480" cy="1250640"/>
            </a:xfrm>
          </p:grpSpPr>
          <p:sp>
            <p:nvSpPr>
              <p:cNvPr id="169" name=""/>
              <p:cNvSpPr/>
              <p:nvPr/>
            </p:nvSpPr>
            <p:spPr>
              <a:xfrm>
                <a:off x="1371600" y="4441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01200" y="4522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228600" y="2209680"/>
            <a:ext cx="4215960" cy="1250640"/>
            <a:chOff x="228600" y="2209680"/>
            <a:chExt cx="4215960" cy="1250640"/>
          </a:xfrm>
        </p:grpSpPr>
        <p:sp>
          <p:nvSpPr>
            <p:cNvPr id="172" name=""/>
            <p:cNvSpPr/>
            <p:nvPr/>
          </p:nvSpPr>
          <p:spPr>
            <a:xfrm flipH="1" flipV="1">
              <a:off x="1549080" y="283032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28600" y="2209680"/>
              <a:ext cx="2409480" cy="1250640"/>
              <a:chOff x="228600" y="2209680"/>
              <a:chExt cx="2409480" cy="1250640"/>
            </a:xfrm>
          </p:grpSpPr>
          <p:sp>
            <p:nvSpPr>
              <p:cNvPr id="174" name=""/>
              <p:cNvSpPr/>
              <p:nvPr/>
            </p:nvSpPr>
            <p:spPr>
              <a:xfrm>
                <a:off x="228600" y="2209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8200" y="2290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2743200" y="2209680"/>
            <a:ext cx="3656880" cy="1904400"/>
            <a:chOff x="2743200" y="2209680"/>
            <a:chExt cx="3656880" cy="1904400"/>
          </a:xfrm>
        </p:grpSpPr>
        <p:sp>
          <p:nvSpPr>
            <p:cNvPr id="177" name=""/>
            <p:cNvSpPr/>
            <p:nvPr/>
          </p:nvSpPr>
          <p:spPr>
            <a:xfrm>
              <a:off x="2743200" y="2209680"/>
              <a:ext cx="3656880" cy="1904400"/>
            </a:xfrm>
            <a:prstGeom prst="ellipse">
              <a:avLst/>
            </a:prstGeom>
            <a:gradFill rotWithShape="0">
              <a:gsLst>
                <a:gs pos="0">
                  <a:srgbClr val="bfbfa7"/>
                </a:gs>
                <a:gs pos="100000">
                  <a:srgbClr val="393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39760" y="2332440"/>
              <a:ext cx="3252600" cy="1650960"/>
            </a:xfrm>
            <a:prstGeom prst="ellipse">
              <a:avLst/>
            </a:prstGeom>
            <a:gradFill rotWithShape="0">
              <a:gsLst>
                <a:gs pos="0">
                  <a:srgbClr val="393932"/>
                </a:gs>
                <a:gs pos="100000">
                  <a:srgbClr val="bfbf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Information Literacy</a:t>
              </a:r>
              <a:br>
                <a:rPr sz="2000"/>
              </a:b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Teaching and Learning</a:t>
              </a:r>
              <a:endParaRPr b="0" lang="en-US" sz="20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00160" y="166680"/>
            <a:ext cx="83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Systemic School Library Improvement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172200"/>
            <a:ext cx="23619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Garamond"/>
              </a:rPr>
              <a:t>Based on National Science Resource Center Reform Model </a:t>
            </a:r>
            <a:r>
              <a:rPr b="0" lang="en-US" sz="1400" spc="-1" strike="noStrike">
                <a:solidFill>
                  <a:srgbClr val="4b2500"/>
                </a:solidFill>
                <a:latin typeface="Garamond"/>
              </a:rPr>
              <a:t>© NSRC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CD3C3-D007-4C03-B2CA-B3ABEC440A6E}" type="slidenum">
              <a:t>2</a:t>
            </a:fld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Student Access to Information Specialists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Garamond"/>
              </a:rPr>
              <a:t>School Library Media Center in every school</a:t>
            </a:r>
            <a:br>
              <a:rPr sz="3200"/>
            </a:br>
            <a:r>
              <a:rPr b="1" lang="en-US" sz="32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Garamond"/>
              </a:rPr>
              <a:t>School Library Media Specialist in every Library Media Center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-77040" y="-57960"/>
            <a:ext cx="4245480" cy="1785240"/>
            <a:chOff x="-77040" y="-57960"/>
            <a:chExt cx="4245480" cy="1785240"/>
          </a:xfrm>
        </p:grpSpPr>
        <p:sp>
          <p:nvSpPr>
            <p:cNvPr id="184" name=""/>
            <p:cNvSpPr/>
            <p:nvPr/>
          </p:nvSpPr>
          <p:spPr>
            <a:xfrm flipH="1">
              <a:off x="1310760" y="515520"/>
              <a:ext cx="2857680" cy="256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-77040" y="-57960"/>
              <a:ext cx="2572560" cy="1785240"/>
              <a:chOff x="-77040" y="-57960"/>
              <a:chExt cx="2572560" cy="1785240"/>
            </a:xfrm>
          </p:grpSpPr>
          <p:sp>
            <p:nvSpPr>
              <p:cNvPr id="186" name=""/>
              <p:cNvSpPr/>
              <p:nvPr/>
            </p:nvSpPr>
            <p:spPr>
              <a:xfrm rot="20564400">
                <a:off x="39600" y="263160"/>
                <a:ext cx="2338920" cy="1142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20564400">
                <a:off x="164880" y="337680"/>
                <a:ext cx="2080080" cy="9907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6821D-4244-46E4-9C48-64DA2921183F}" type="slidenum">
              <a:t>3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Advocacy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000" spc="-1" strike="noStrike">
                <a:solidFill>
                  <a:srgbClr val="4b2500"/>
                </a:solidFill>
                <a:latin typeface="Garamond"/>
              </a:rPr>
              <a:t>Winning compliance </a:t>
            </a:r>
            <a:br>
              <a:rPr sz="4000"/>
            </a:br>
            <a:r>
              <a:rPr b="0" lang="en-US" sz="4000" spc="-1" strike="noStrike">
                <a:solidFill>
                  <a:srgbClr val="4b2500"/>
                </a:solidFill>
                <a:latin typeface="Garamond"/>
              </a:rPr>
              <a:t>in meeting Regulations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7960" y="315360"/>
            <a:ext cx="4198680" cy="2003040"/>
            <a:chOff x="327960" y="315360"/>
            <a:chExt cx="4198680" cy="2003040"/>
          </a:xfrm>
        </p:grpSpPr>
        <p:sp>
          <p:nvSpPr>
            <p:cNvPr id="191" name=""/>
            <p:cNvSpPr/>
            <p:nvPr/>
          </p:nvSpPr>
          <p:spPr>
            <a:xfrm flipH="1">
              <a:off x="1721520" y="639360"/>
              <a:ext cx="2805120" cy="603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327960" y="315360"/>
              <a:ext cx="2601720" cy="2003040"/>
              <a:chOff x="327960" y="315360"/>
              <a:chExt cx="2601720" cy="2003040"/>
            </a:xfrm>
          </p:grpSpPr>
          <p:sp>
            <p:nvSpPr>
              <p:cNvPr id="193" name=""/>
              <p:cNvSpPr/>
              <p:nvPr/>
            </p:nvSpPr>
            <p:spPr>
              <a:xfrm rot="20143800">
                <a:off x="459360" y="745560"/>
                <a:ext cx="2338920" cy="1142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20143800">
                <a:off x="584280" y="820800"/>
                <a:ext cx="2080080" cy="9907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5BCCE-CAB0-4EDB-B467-09D4D02AD2C1}" type="slidenum">
              <a:t>4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Winning </a:t>
            </a: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Administrative Support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-55440"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Action items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-55440"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Educational Technology 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-55440"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Professional Development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-55440"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Focus group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27960" y="315360"/>
            <a:ext cx="4198680" cy="2003040"/>
            <a:chOff x="327960" y="315360"/>
            <a:chExt cx="4198680" cy="2003040"/>
          </a:xfrm>
        </p:grpSpPr>
        <p:sp>
          <p:nvSpPr>
            <p:cNvPr id="198" name=""/>
            <p:cNvSpPr/>
            <p:nvPr/>
          </p:nvSpPr>
          <p:spPr>
            <a:xfrm flipH="1">
              <a:off x="1721520" y="639360"/>
              <a:ext cx="2805120" cy="603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327960" y="315360"/>
              <a:ext cx="2601720" cy="2003040"/>
              <a:chOff x="327960" y="315360"/>
              <a:chExt cx="2601720" cy="2003040"/>
            </a:xfrm>
          </p:grpSpPr>
          <p:sp>
            <p:nvSpPr>
              <p:cNvPr id="200" name=""/>
              <p:cNvSpPr/>
              <p:nvPr/>
            </p:nvSpPr>
            <p:spPr>
              <a:xfrm rot="20143800">
                <a:off x="459360" y="745560"/>
                <a:ext cx="2338920" cy="1142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20143800">
                <a:off x="584280" y="820800"/>
                <a:ext cx="2080080" cy="9907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8242C-4C7E-45D2-B391-A45CC0F8D961}" type="slidenum">
              <a:t>5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20:37:35Z</dcterms:created>
  <dc:creator> </dc:creator>
  <dc:description/>
  <dc:language>en-US</dc:language>
  <cp:lastModifiedBy> </cp:lastModifiedBy>
  <dcterms:modified xsi:type="dcterms:W3CDTF">2009-05-08T16:14:03Z</dcterms:modified>
  <cp:revision>110</cp:revision>
  <dc:subject/>
  <dc:title>Work Group Question here</dc:title>
</cp:coreProperties>
</file>